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ED3-1871-421B-BF54-B52908B1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ADF-AEC2-4BCA-90AE-5BCE7474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BEB-851A-4841-A27A-E21D8C0C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44D-FD67-4F81-97DA-8F472F1E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04E5-B250-4300-8607-9FE29BAE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8980-0C19-407B-B369-B71EDBE9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A53E-B20B-4654-8E83-266F28D3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B2B6-CFB1-445D-9267-ACBE1E14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5C6D-A251-43B5-A7AD-F906CAD3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1B8C-7A0A-4B2B-A027-BD7BFF7C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EBD5-0414-493A-95AC-6ED4D4DF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A337-C42E-4877-9F88-CAD6D929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CDD3-EC78-4128-8F37-E3FE75DC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0F25-7BC4-403E-BF31-A3277CE4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30ED-DE7D-4B89-BC83-60BA89AA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1C7E-2ED7-4B0B-9A10-8FEC907F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844C-BC03-40E9-8695-ED486600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95FFC-1715-4D1B-922D-64993E29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1DF88-E28F-468B-98EE-F5A0D08C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CBF86-FECB-4772-A164-CDEFC066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144DC-B127-46E6-A8B2-923B5A23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C5C3-9DCF-4266-854F-529A1486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6C9-CD5E-4A76-837F-F5A6D6B3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EC88C-002D-4A95-8E7B-E355AE7F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7B323-482A-44D2-BFD5-3685D3CE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8CA70-4375-42D4-9264-5CD3F9DB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F864D-B5DB-48D0-90D7-08321BC6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7FB65-38BE-49AA-82DB-450C358F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77410-15C2-4950-BF3C-A9566ECC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2FDF4-79BE-41C4-9C58-233EAAA7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AB551-1FE2-45E7-A382-38B806EC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FAA06-E7D3-4F69-92D2-07437D20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8B0D8-5698-449C-8159-2FCC1996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1CB-8501-4F77-8CF2-8AD17016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54C95-5FEA-4300-A05F-0B3859FF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FA428-64D9-4554-ABF3-E8A265D0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7B6B0-5495-4C5B-BEE0-BD47017E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81459-3301-4241-ADF3-4AD6AB96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C0787-EB77-44A8-A3F8-056A5800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A0E07-A565-4C97-AC99-F07258A3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2B979-A98B-4819-B4CD-0A07B790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FA07E-AB96-4016-844D-EB205BE0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C7E43-CA97-44E1-916A-EFE6DB1A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8E8FD-2045-4B6A-B16A-93D1D5BA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9395-2900-410C-B36E-48668239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8BBE4-E159-4732-BAD1-EE04F9A6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1AAA0-FFB5-4990-8C55-482174DC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58D20-0595-47B6-8B94-BC49DB1F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EAA4F-0B34-4D9D-8E89-76995697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B6FCA-D7DA-4E2F-B3AA-4B1509AF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B8B4F-90CC-4FB6-97EA-439387F5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8E243-0A92-425E-BBD4-358F650F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1560F-954C-42D2-8EF9-6E515E74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26BDD-D2CE-4937-A60E-FA8BFFBC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DD070-5BEA-48EF-B986-44CCD1B3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D0B-2CE9-40F7-8B93-E1B3EC37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DB933-6B8C-4082-8EE0-2D8F0D87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43D-B07A-4C87-9443-A693F3AA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F4F7-BD9C-4B78-AA23-8738EFA0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EAB-D120-4926-AD3B-B757F037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C843C-0A7D-4B3D-9F10-DE95F23BC017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B3251-889C-492C-99D5-7BDBCF5274F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8D03C-930E-4992-A903-7F731662B7E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43E57-A20B-450C-9689-04FA57D562F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EA011-4868-418B-B419-B5FE860DD7AD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03CBF-A09D-478F-973F-C39101CE670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94A51-02E9-4B3B-944C-AFC51C489E12}" type="datetime"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97179-7F59-4B31-86EE-25A175B7D8E4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85290-DD7E-417C-9B3C-CB399BE11075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07E88-BE2E-4A4A-8262-08B9ED73C72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119560" cy="2882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1861-1865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ohn Laid and Sons- two Confederate warships were being constructe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would have destroyed the Union blockade. 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London government bought the ships for the Royal Navy.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Dominion of Canada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ed by British, 1867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designed to strengthen the Canadians against the possible vengeance of the United States. 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mperor Napoleon III of France dispatched a French army to occupy Mexico City in 1863.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installed Maximilian as emperor of Mexico City. 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direct violation of the Monroe Doctrine.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Civil War ended in 1865</a:t>
            </a:r>
            <a:r>
              <a:rPr b="0" lang="en-US" sz="2100" spc="-1" strike="noStrike">
                <a:solidFill>
                  <a:srgbClr val="6c6c6c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 Napoleon forced to abandon Maximilian &amp; Mexico City.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AP PARTS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Author 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 Who created the source? What is their point of view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* 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lace and Tim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 -Where and when was the source produced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* 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ior Knowledg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 - What do you already know that would further your understanding of this source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* 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Audienc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 - For whom was the source created? Does this affect the reliability of the source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* 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Reason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 - Why was this source produced at the time is was produced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* 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The Main Idea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 - What is the source trying to convey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* 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Significanc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 - Why is this source important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lso include a summary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President Davis vs. President Lincoln 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9200"/>
            <a:ext cx="35434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rebuchet MS"/>
              </a:rPr>
              <a:t>Davi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Defect: his own states could secede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States’ rights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No personal popularity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Often faced impeachment 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152960" y="1609200"/>
            <a:ext cx="35431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rebuchet MS"/>
              </a:rPr>
              <a:t>Lincoln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Long-established government 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Financial stability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Recognized government- at home &amp; abroad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“</a:t>
            </a: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Honest Abe”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927000" y="4178160"/>
            <a:ext cx="2462400" cy="24624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746600" y="4595760"/>
            <a:ext cx="20750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Limitations on Wartime Liberties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gress not in session when war broke ou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ncoln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roclaimed a blockad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ncreased the size of the federal arm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uspended habeas corpus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“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upervised voting” in border stat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avis less able to use arbitrary pow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outh more willing to lose the war than to surrender states’ righ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Volunteers &amp; Draftees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863- congress passes a nationwide federal conscription law for the first time in histor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ould pay $300 to buy a replacement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Met w/ resentment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Mob broke out in north protesting the draf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uth also forced to dra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ould also buy replacemen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laveowners w/ more than 20 slaves exemp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“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ich man’s war but a poor man’s fight”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492960" y="5060880"/>
            <a:ext cx="26510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Economic Stresses of War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come tax levied for first ti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ariffs increas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signed to raise revenue for war and protect manufactur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rotective tariff=Republican party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Greenback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paper money issued by Congr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Backed by nation’s fluctuating gold suppl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Value constantly changing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660760" y="5572080"/>
            <a:ext cx="2923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National Banking System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ational Banking Ac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ancial landmark of the w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imulant to the sale of government bond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tablished a standard bank-note currenc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rst step towards a unified banking system since 1836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uth forced to print “blue backed” mone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evere inflation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North’s Economic Boom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illionaire cla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borsaving machine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Mechanical reaper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llowed men to leave farms for war while providing grain for northern profit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troleum Boom- Pennsylvania, 1859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“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ifty-Niners”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ened up jobs for wom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" descr="Sarah Edmonds"/>
          <p:cNvPicPr/>
          <p:nvPr/>
        </p:nvPicPr>
        <p:blipFill>
          <a:blip r:embed="rId1"/>
          <a:stretch/>
        </p:blipFill>
        <p:spPr>
          <a:xfrm>
            <a:off x="2025720" y="5089680"/>
            <a:ext cx="33336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rushed Cotton Kingdom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rth’s blockade hampered southern econom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uthern transportation collaps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tton capitalism lost out to industrial capitalis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695680" y="3471840"/>
            <a:ext cx="42955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ivil War TimeLine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r group will be assigned a different battle or event during the Civil W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will create a poster including the following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Date of the even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Description (be thorough!)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f you have a battle-include WHERE it was fought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ignificance of the event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nteresting Fact about your event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picture representing the even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You will be presenting to the class on Monday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ncoln inaugurated March 4, 186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hysically speaking we cannot separate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National deb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ederal territori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p goal: restoration of the unio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3002040" y="3862440"/>
            <a:ext cx="2423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t still loyal to the unio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pplies running low, Lincoln chooses to send suppl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ates that he is sending provision for the fort, not reinforcemen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pril 12, 186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outh Carolinians opened fire on the for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34 hours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No lives los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ort surrender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incoln mobilizes troops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issouri, Kentucky, West Virginia, Maryland, Delawar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ly slave states that hadn’t seceded from the un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tain Ohio River- necessary for north &amp; sout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ncoln releases official state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NOT fighting to free the slav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rimary purpose was to save the union at all cos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214200" y="1596960"/>
            <a:ext cx="7917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South had advantage of fighting defensively on its own lan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id not have to win in order to preserve Confederacy-just had to fight to a draw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obert E. Lee- offered command of northern armies, chose to fight for Virgini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tonewall Jackson: Lee’s chief lieutenant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Nort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¾ of the nation's wealth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¾ of nation's railroad system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wice as large of a population as the South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457200" y="998640"/>
            <a:ext cx="3170160" cy="4690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3"/>
          <a:stretch/>
        </p:blipFill>
        <p:spPr>
          <a:xfrm>
            <a:off x="4572000" y="998640"/>
            <a:ext cx="347508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uth counted on foreign intervention to win the wa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British textile mills depended on south for cott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rplus of cotton in Britain allowed it to function w/o cotton from the sout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eat &amp; corn (NORTH) proved to be more powerful than cott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Britain did not help south to gain cotton b/c it would have lost grains from the north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The Trent affair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ccurred in late 1861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Union warship stopped a British mail steamer, (the Trent), &amp; removed 2 Confederate diplomats who were heading to Europe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ngered Britain, but the situation was ended when Lincoln freed prisoners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ritain: chief naval base of the Confederac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British ships left their ports unarmed, picked up arms elsewhere, and captured Union ships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6c6c6c"/>
                </a:solidFill>
                <a:latin typeface="Trebuchet MS"/>
              </a:rPr>
              <a:t>The Alabam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0:02:18Z</dcterms:created>
  <dc:creator>Emily Johnson</dc:creator>
  <dc:description/>
  <dc:language>en-US</dc:language>
  <cp:lastModifiedBy>emily.johnson</cp:lastModifiedBy>
  <dcterms:modified xsi:type="dcterms:W3CDTF">2012-12-07T15:13:14Z</dcterms:modified>
  <cp:revision>8</cp:revision>
  <dc:subject/>
  <dc:title>Chapter 20 Girding for War: The North and the South </dc:title>
</cp:coreProperties>
</file>